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77F-FFA6-4EB7-9D1E-784CDB42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941-2E24-4CD2-B3CE-BD35915A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078-E5EE-4262-A15F-67FFE05E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ADF-5EB5-48B0-9F69-48EC8CB1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74D-43A3-4946-89DA-2C397133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B7D-BC99-414A-B682-8DE3FC58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EB4-3AFC-459F-B652-0D1EFC12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52A-66EC-4C01-8DB8-BDB830E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87C-6BEA-41FD-8BCF-F0B4911B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53F-8D24-49D7-B93A-89B85A4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C88-B204-47E9-B7EE-FD04BBF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43F-11BE-4232-8B6C-E2AD7EE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35FC3-4A6E-4D98-89CF-F5087A13C23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025880" cy="372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Bot 2.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čebná pomôcka pre záujemcov o robot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9500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vid Gustafík a Pavol Krasňanský, v spolupráci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80836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adiaca elektro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zog celého zariad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lá kompaktná doska s procesorom A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á na sebe univerzálnu dosku, procesor, BlueTooth, spínanie a ovládanie servomotorov, pripojenia viacerých senzorov, prípojku na vyšší systé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6659640" cy="380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2997360"/>
            <a:ext cx="2016000" cy="3600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292640"/>
            <a:ext cx="1368360" cy="1297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860640"/>
            <a:ext cx="1368360" cy="1513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89360"/>
            <a:ext cx="649440" cy="223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924280"/>
            <a:ext cx="1297080" cy="57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2924280"/>
            <a:ext cx="1728720" cy="792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3860640"/>
            <a:ext cx="505080" cy="136872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5013360"/>
            <a:ext cx="647640" cy="1368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734080"/>
            <a:ext cx="720720" cy="64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6320" y="86688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885097"/>
              <a:gd name="adj4" fmla="val -3739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x tlačí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989000"/>
            <a:ext cx="1939680" cy="330480"/>
          </a:xfrm>
          <a:prstGeom prst="borderCallout1">
            <a:avLst>
              <a:gd name="adj1" fmla="val 18750"/>
              <a:gd name="adj2" fmla="val -8333"/>
              <a:gd name="adj3" fmla="val 842305"/>
              <a:gd name="adj4" fmla="val -3772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907920"/>
            <a:ext cx="4176720" cy="330480"/>
          </a:xfrm>
          <a:prstGeom prst="borderCallout1">
            <a:avLst>
              <a:gd name="adj1" fmla="val 18750"/>
              <a:gd name="adj2" fmla="val -8333"/>
              <a:gd name="adj3" fmla="val 696634"/>
              <a:gd name="adj4" fmla="val -26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vyššieho systé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13000"/>
            <a:ext cx="3887640" cy="431640"/>
          </a:xfrm>
          <a:prstGeom prst="borderCallout1">
            <a:avLst>
              <a:gd name="adj1" fmla="val 18750"/>
              <a:gd name="adj2" fmla="val -8333"/>
              <a:gd name="adj3" fmla="val 398527"/>
              <a:gd name="adj4" fmla="val -926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pojenie nárazníkov a 4x 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060640"/>
            <a:ext cx="1944720" cy="647640"/>
          </a:xfrm>
          <a:prstGeom prst="borderCallout1">
            <a:avLst>
              <a:gd name="adj1" fmla="val 18750"/>
              <a:gd name="adj2" fmla="val -8333"/>
              <a:gd name="adj3" fmla="val 491175"/>
              <a:gd name="adj4" fmla="val 112652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x Analógové 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56536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501444"/>
              <a:gd name="adj4" fmla="val -45416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3284640"/>
            <a:ext cx="1940040" cy="3301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20458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x 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5373720"/>
            <a:ext cx="1939680" cy="330120"/>
          </a:xfrm>
          <a:prstGeom prst="borderCallout1">
            <a:avLst>
              <a:gd name="adj1" fmla="val 18750"/>
              <a:gd name="adj2" fmla="val -8333"/>
              <a:gd name="adj3" fmla="val 214902"/>
              <a:gd name="adj4" fmla="val -154171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P rozhr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557360"/>
            <a:ext cx="2156040" cy="330120"/>
          </a:xfrm>
          <a:prstGeom prst="borderCallout1">
            <a:avLst>
              <a:gd name="adj1" fmla="val 18750"/>
              <a:gd name="adj2" fmla="val -8333"/>
              <a:gd name="adj3" fmla="val 920671"/>
              <a:gd name="adj4" fmla="val -17967"/>
            </a:avLst>
          </a:prstGeom>
          <a:solidFill>
            <a:srgbClr val="ff00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niverzálna dos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ôležitá časť robota – umožňuje študentom tvoriť vlastné zapojenia na robota, prípadne pripájať neštandardné senzory – na plyn, svetlo, tlak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e na ňu vyved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8x digitálne I/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7x analógových vstup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I2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x sériová lin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x prerušeni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0320" indent="-303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+5V, 3.3V, G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608472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enzo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17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sledovanie čiary: 2x CNY70 na samostatných doskách – kvôli jednoduchšiemu umiestneni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036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4083120"/>
            <a:ext cx="2808360" cy="277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06064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árazník: 4x mikrospínače spojené s kruhom ktorý obopína celého robota zo všetkých strán – možnosť zistenia smeru náraz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68640"/>
            <a:ext cx="817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mapovanie prostredia – mechanické riešenie pre 4x GP2Dxx senz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munikác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ueTooth – dosah 3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í na PC štandardný sériový port na ktorý sa možno napojiť akýmkoľvek terminálom, alebo špeciálnou aplikáci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ériová 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tokol kompatibilný s tým, čo je použitý v Robotic Labe na FEI S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Firmware a softwa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mware: Jednoduchý framework na ktorom je možné ďalej stavať, napísaný v C pre AV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šetky nástroje použité sú zadarmo ( kompilátor, simulátor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ftware: Akýkoľvek terminálový program, alebo užívateľská apliká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arametre S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9280" y="1125360"/>
            <a:ext cx="8508960" cy="5550120"/>
            <a:chOff x="179280" y="1125360"/>
            <a:chExt cx="8508960" cy="5550120"/>
          </a:xfrm>
        </p:grpSpPr>
        <p:sp>
          <p:nvSpPr>
            <p:cNvPr id="130" name=""/>
            <p:cNvSpPr/>
            <p:nvPr/>
          </p:nvSpPr>
          <p:spPr>
            <a:xfrm>
              <a:off x="3981600" y="63086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, assembl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80" y="63086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cí jazy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1600" y="594360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LED dióda, 3x tlačítk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80" y="594360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é užívateľské zariaden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600" y="5270400"/>
              <a:ext cx="4705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P2Dxx senzory na vzdialenosť, viac senzorov na čiar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80" y="5270400"/>
              <a:ext cx="3802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Ďalšie pripojiteľné senzory bez akejkoľvek úpravy robo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81600" y="4595760"/>
              <a:ext cx="47052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Senzor na čiaru, nárazník na zistenie so štyrmi možnými smermi náraz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80" y="4595760"/>
              <a:ext cx="3802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zory v základnej výb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81600" y="423072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80" y="423072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sah BlueToot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81600" y="38656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P, bootloa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80" y="38656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gramovanie proceso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81600" y="3500280"/>
              <a:ext cx="470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Mega12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9280" y="3500280"/>
              <a:ext cx="3802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lavný proces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81600" y="31352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,156m/s = 0,5625km/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280" y="31352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ýchlos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1600" y="2495520"/>
              <a:ext cx="4705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x modelárske servomotory, max. pripojiteľných serv: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9280" y="2495520"/>
              <a:ext cx="3802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h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81600" y="213048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96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13048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motnosť so zdroj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81600" y="1765440"/>
              <a:ext cx="4705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x 1,2V NiMH/NiCD akumulá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280" y="1765440"/>
              <a:ext cx="3802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pájani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81600" y="1125360"/>
              <a:ext cx="4705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0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9280" y="1125360"/>
              <a:ext cx="3802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emer robota s osadeným nárazník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176544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16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21304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280" y="24955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31352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280" y="35002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386568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280" y="423072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280" y="45957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280" y="527040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280" y="5943600"/>
              <a:ext cx="8507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280" y="630864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280" y="112536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1125360"/>
              <a:ext cx="180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86800" y="1125360"/>
              <a:ext cx="1440" cy="554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6673680"/>
              <a:ext cx="8507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742000" cy="319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00000" y="450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k sú nejaké otázky, prosím, pýtajte 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ieľ projekt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idať nový systém do RoboticLabu na FEI v spolupráci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ytvoriť rozšíriteľnú učebnú pomôcku z bežne dostupných komponen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hrať s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2066760" cy="26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Koncepcia a čo s tý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ostatné zariadenie na skúšanie si algoritmov, učenie sa základných princípov robotiky – detekcia a obídenie prekážky, sledovanie č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dvozok pre vyšší systém – na robota možno napojiť napr. jednodoskový počítač s Linuxom a kamerou, cez ktorý je možné skúšať pokročilejšie princípy robotiky – rozpoznávanie obrazu, umelá inteligenci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z BlueTooth na diaľku riadený robot, vhodný napr. do Robotic Lab na FEI 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Mechanik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lavná časť: Len jeden kus hliníku – ľahko a lacno vyrobiteľné dvoma operáciami, všetko ostatné – štandardné di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statok montážnych otvorov na ďalšie rozšírenia ( senzory, iná mechanika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456000" cy="282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378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noduchá montáž – stačí len zoskrutkovať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Ukážka montáž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lavné čast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236760"/>
            <a:ext cx="4427640" cy="362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oh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žný trojbodový systém – jeden pasívny oporný bod, dve kolie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ory – bežné modelárske servomo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tí oporný bod – záslepka na skrut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560840"/>
            <a:ext cx="2808360" cy="229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35640" y="4560840"/>
            <a:ext cx="280836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loková schéma robot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068640"/>
            <a:ext cx="3384720" cy="20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068640"/>
            <a:ext cx="1800360" cy="863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32360" y="2349360"/>
            <a:ext cx="1800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724280"/>
            <a:ext cx="1800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Čia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589720"/>
            <a:ext cx="1800360" cy="100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árazní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400536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nz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zdiale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95008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t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557360"/>
            <a:ext cx="2519280" cy="64764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yšší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3429000"/>
            <a:ext cx="129672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221000"/>
            <a:ext cx="151272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verzá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4221000"/>
            <a:ext cx="1584360" cy="64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ína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omot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429000"/>
            <a:ext cx="1800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/O na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06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iadiaca do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3429000"/>
            <a:ext cx="1368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562200" y="429264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62200" y="479736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562200" y="5011560"/>
            <a:ext cx="1371600" cy="795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564000" y="2635200"/>
            <a:ext cx="1368360" cy="434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276640"/>
            <a:ext cx="144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03280" y="5083200"/>
            <a:ext cx="1800" cy="86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1557360"/>
            <a:ext cx="2376360" cy="719280"/>
          </a:xfrm>
          <a:prstGeom prst="rect">
            <a:avLst/>
          </a:prstGeom>
          <a:solidFill>
            <a:srgbClr val="003399"/>
          </a:solidFill>
          <a:ln w="25560">
            <a:solidFill>
              <a:srgbClr val="f0e5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Študentská apliká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 univerzálnej dos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4920" y="2276640"/>
            <a:ext cx="180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72360" y="1626840"/>
            <a:ext cx="144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72360" y="1410840"/>
            <a:ext cx="14436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72360" y="1410840"/>
            <a:ext cx="144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26200" y="1410840"/>
            <a:ext cx="147600" cy="21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Napájani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 x AA batérie, môžu byť nabíjateľné NiMH, Ni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iestnené na spodku robota, zabezpečujú rovnováh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3280" y="3794040"/>
            <a:ext cx="3744720" cy="30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</dc:creator>
  <dc:description/>
  <dc:language>en-US</dc:language>
  <cp:lastModifiedBy>D</cp:lastModifiedBy>
  <cp:revision>0</cp:revision>
  <dc:subject/>
  <dc:title>SBot 2.0</dc:title>
</cp:coreProperties>
</file>